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BEF3-C162-44ED-B184-AA42C052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363D-3A2D-4B56-AD01-0F7B3197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74E-2658-4590-9E6F-9A7BA946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B292-40D9-418A-BECF-0539CB27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0199-9E8B-4AD3-A489-1934F9A6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C650-CC5D-4C82-8D02-1EEFDBCE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9661-18F4-40A6-AF09-D9D8FC58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A95E-6AEA-4413-8633-7EE2B57A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CD32-7BFC-496D-8DED-19AA9E55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F3BC-EC2B-4D66-AC19-F7B73A03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2835-F1E4-4B98-A9C3-4942839D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97C6-24DB-4BBB-B43C-9F7139D0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A5A6-72F4-4D1F-BC8B-8A28E1E1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4533-193A-43AD-A6D8-34497CD6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1ED6-7D9D-4D4D-8F88-20A85772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6E05-B496-48DC-8259-DAEDD29C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552F-494F-4AF2-8693-9BA379CF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5030-335D-4EDB-887D-F682B4BD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53E6-5DDA-49CB-AC64-2949A7E5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F44-EBA6-4E64-BA11-242C4039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B65-5427-40BC-B0CA-AADB3DAB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CC24-1858-47BE-88B3-24F91DBD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5C7-B1F2-4A01-AC66-0F633F79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45DA-58EF-4104-8507-E6F640EA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80D9-BB6A-40E4-8CBA-45B44A43E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E9C1-D8F6-45D4-BD22-17ED0F9F6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Earth’s Resources: Soil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0" y="1523520"/>
            <a:ext cx="4572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orizons are the underlying ro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orizon is weathered and broken rock o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goli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each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inerals may be found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orizon i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edro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almost solid crustal material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yers = HORIZ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Picture 6" descr="soillayers"/>
          <p:cNvPicPr/>
          <p:nvPr/>
        </p:nvPicPr>
        <p:blipFill>
          <a:blip r:embed="rId1"/>
          <a:stretch/>
        </p:blipFill>
        <p:spPr>
          <a:xfrm>
            <a:off x="457200" y="1523880"/>
            <a:ext cx="32209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yers = Horiz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il in different locations may or may not have all of these horiz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instance, in a construction zone, all of the topsoil may have been remov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soil may have eroded through wind or water eff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vy earthquake or storm damage may have disrupted the existing lay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amples of Soil Profi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5" descr="Photograph of a profile of the Nashville soil series."/>
          <p:cNvPicPr/>
          <p:nvPr/>
        </p:nvPicPr>
        <p:blipFill>
          <a:blip r:embed="rId1"/>
          <a:stretch/>
        </p:blipFill>
        <p:spPr>
          <a:xfrm>
            <a:off x="533520" y="129528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Photograph of a profile of the Arawak soil series."/>
          <p:cNvPicPr/>
          <p:nvPr/>
        </p:nvPicPr>
        <p:blipFill>
          <a:blip r:embed="rId2"/>
          <a:stretch/>
        </p:blipFill>
        <p:spPr>
          <a:xfrm>
            <a:off x="5410080" y="1371600"/>
            <a:ext cx="2743200" cy="41148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5181480" y="56386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mestone soil in the USVI (organic limeston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457200" y="55627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amy sand from Kans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ther components of soi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 – after rains or floods, water infiltrates the soil, carrying the nutrients to plant roots and into lower horiz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r – soil is composed of approximately 25% air, aided by the movement of worms and insects in the topsoil lay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% living things – plant roots, worms, microorganisms make up part of the s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ypes of Soi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il is classified according to the type of mineral 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i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o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4876920" cy="12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andy Soi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dy soil has large particles which don’t fit together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 (and dissolved nutrients) seep right through and are not usable by plants’ ro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ype of soil dries out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les feel grai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Profile photograph of an Alfisol"/>
          <p:cNvPicPr/>
          <p:nvPr/>
        </p:nvPicPr>
        <p:blipFill>
          <a:blip r:embed="rId1"/>
          <a:stretch/>
        </p:blipFill>
        <p:spPr>
          <a:xfrm>
            <a:off x="5638680" y="380880"/>
            <a:ext cx="3098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ilty Soi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599840"/>
            <a:ext cx="5715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les are smaller than s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les are very light, they erode easily with both wind and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water, this is what we think of as m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les feel like fl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sty texture when d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943600" y="35812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181480" cy="11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ay-type soi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aye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oil has very small particles, and gums together. It holds water and nutrients well, but plants find it hard to root in clay so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le it holds water well, it takes a long time for water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erme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clay so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ef, heavy rains may not reach plant roo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les feel slipp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5" descr="Profile photograph of an Ultisol"/>
          <p:cNvPicPr/>
          <p:nvPr/>
        </p:nvPicPr>
        <p:blipFill>
          <a:blip r:embed="rId1"/>
          <a:stretch/>
        </p:blipFill>
        <p:spPr>
          <a:xfrm>
            <a:off x="5562720" y="457200"/>
            <a:ext cx="32954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18148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oamy Soi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fect mix of particle size and texture to hold water and nutrient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40% s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% si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% c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5" descr="Profile photograph of an Histosols"/>
          <p:cNvPicPr/>
          <p:nvPr/>
        </p:nvPicPr>
        <p:blipFill>
          <a:blip r:embed="rId1"/>
          <a:stretch/>
        </p:blipFill>
        <p:spPr>
          <a:xfrm>
            <a:off x="5715000" y="533520"/>
            <a:ext cx="3060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ypes of soi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deal type of soil for plant (crop) growth is partway between the three typ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oam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oil has neither too small nor too large particles (It’s just right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le to drain, but also hold nutr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oam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oil has a good percentage of decayed plant material o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umu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hich provide the nutrients that plants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is soil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utermost layer of the earth’s cr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e up of both organic (from living things) and inorganic materi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’s divided into layers according to the ratio of organic to inorganic material at various dep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’s classified according to what kind of material you can find in a s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urther Resources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Resources Conservation Service website. Try out the Web Soil Survey tool to see what’s under your f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Environmental Protection A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ging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to So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yers of the soi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ayers vary as to 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loser to the top, the more organic material you’ll f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i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 animals (insects as well as larger critt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ly, at the bottom, you will hit BEDROCK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8" descr="0055"/>
          <p:cNvPicPr/>
          <p:nvPr/>
        </p:nvPicPr>
        <p:blipFill>
          <a:blip r:embed="rId1"/>
          <a:stretch/>
        </p:blipFill>
        <p:spPr>
          <a:xfrm>
            <a:off x="457200" y="1676520"/>
            <a:ext cx="36576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yers = HORIZ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419360" y="1523880"/>
            <a:ext cx="472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opmost layer, 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orizon, includes 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tt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or detritus from formerly living thing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orizon is the most valuable – It is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psoi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ere plants get most of their nutrients. The decaying organic matter in this layer is called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m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5" descr="soillayers"/>
          <p:cNvPicPr/>
          <p:nvPr/>
        </p:nvPicPr>
        <p:blipFill>
          <a:blip r:embed="rId1"/>
          <a:stretch/>
        </p:blipFill>
        <p:spPr>
          <a:xfrm>
            <a:off x="533520" y="1600200"/>
            <a:ext cx="3565440" cy="47242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2514600" y="2590920"/>
            <a:ext cx="1066680" cy="30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1616"/>
                </a:solidFill>
                <a:latin typeface="Times New Roman"/>
              </a:rPr>
              <a:t>(litt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Humu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living things (both dead plants and dead animals) decompose, their molecular components become available for new plants to take up 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utri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decayed material is call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umu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mus is mostly insoluble, so it remains in these upper layers of s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very dark, nearly black in col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man creat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umu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call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o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OPSOI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ve tons of topsoil spread over an acre would only be as thick as a dim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takes over 500 years for organic material to collect and decompose naturally to form only ONE INCH of topsoi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to 10 tons of animal life can exist in an acre of topsoi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0" y="1523520"/>
            <a:ext cx="41148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orizon is where the nutrients from the organic material (humus) begin to dissol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eepest of plants’ roots sometimes extend this f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yers = HORIZ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5" descr="soillayers"/>
          <p:cNvPicPr/>
          <p:nvPr/>
        </p:nvPicPr>
        <p:blipFill>
          <a:blip r:embed="rId1"/>
          <a:stretch/>
        </p:blipFill>
        <p:spPr>
          <a:xfrm>
            <a:off x="457200" y="1523880"/>
            <a:ext cx="3451320" cy="45720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2362320" y="2514600"/>
            <a:ext cx="1066680" cy="30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1616"/>
                </a:solidFill>
                <a:latin typeface="Times New Roman"/>
              </a:rPr>
              <a:t>(litt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each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rain or other sorts of precipitation, water moves into the soil. This is call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filtr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it moves from the topsoil layer into the subsoils and deeper, it dissolves inorganic minerals from the upper layers. This is call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each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erals and other substances may be carried into groundwater supplies and thus into drinking water in this mann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0" y="1523520"/>
            <a:ext cx="41148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oriz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layer contains a smaller amount of organic mate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a heavy concetration of the minerals leached from the above lay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yers = HORIZ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6" descr="soillayers"/>
          <p:cNvPicPr/>
          <p:nvPr/>
        </p:nvPicPr>
        <p:blipFill>
          <a:blip r:embed="rId1"/>
          <a:stretch/>
        </p:blipFill>
        <p:spPr>
          <a:xfrm>
            <a:off x="457200" y="1523880"/>
            <a:ext cx="3451320" cy="4572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"/>
          <p:cNvSpPr/>
          <p:nvPr/>
        </p:nvSpPr>
        <p:spPr>
          <a:xfrm>
            <a:off x="2362320" y="2514600"/>
            <a:ext cx="1066680" cy="30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1616"/>
                </a:solidFill>
                <a:latin typeface="Times New Roman"/>
              </a:rPr>
              <a:t>(litt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11:06:15Z</dcterms:created>
  <dc:creator>Jenkintown School District</dc:creator>
  <dc:description/>
  <dc:language>en-US</dc:language>
  <cp:lastModifiedBy> </cp:lastModifiedBy>
  <dcterms:modified xsi:type="dcterms:W3CDTF">2011-02-16T14:08:52Z</dcterms:modified>
  <cp:revision>6</cp:revision>
  <dc:subject/>
  <dc:title>Earth’s Resources: Soil</dc:title>
</cp:coreProperties>
</file>